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0A0-D354-43BC-B9D4-EBD901E8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9F6-81B3-4EE0-8F3B-65BF53AB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3C8-BF4E-487E-9CD0-261471FB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19F-2C51-4790-9A68-11C8EAB9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EF9-7E42-40E4-8F32-E39E7EE0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040-CADD-4EAC-8281-771FF48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B2C-AECA-4D8C-8F54-2912D7D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5D3-689A-4695-B0F5-E367476D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835-6C07-4EC4-ADD9-939AE7A8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618-BCCA-4B8B-B674-B1D6681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F8D-39F9-4821-92C1-86E77F9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16C-092F-4BDB-92F6-ADD7C878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158-4666-476F-B8B1-B9C759C2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freepal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533520"/>
            <a:ext cx="5791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prstDash val="dashDot"/>
                  <a:miter/>
                </a:ln>
                <a:solidFill>
                  <a:srgbClr val="1d41f7"/>
                </a:solidFill>
                <a:latin typeface="Arial Black"/>
              </a:rPr>
              <a:t>Gatorade</a:t>
            </a:r>
            <a:endParaRPr b="0" lang="en-US" sz="1800" spc="1" strike="noStrike">
              <a:ln w="9360">
                <a:solidFill>
                  <a:srgbClr val="000000"/>
                </a:solidFill>
                <a:prstDash val="dashDot"/>
                <a:miter/>
              </a:ln>
              <a:solidFill>
                <a:srgbClr val="1d41f7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1828800"/>
            <a:ext cx="2187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entury Gothic"/>
              </a:rPr>
              <a:t>T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entury Gothic"/>
              </a:rPr>
              <a:t>Monday, March 08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entury Gothic"/>
              </a:rPr>
              <a:t>Peri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entury Gothic"/>
              </a:rPr>
              <a:t>Compu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5029200"/>
            <a:ext cx="46483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entury Gothic"/>
              </a:rPr>
              <a:t>Sound: Free play Music, </a:t>
            </a:r>
            <a:r>
              <a:rPr b="0" lang="en-US" sz="1800" spc="-1" strike="noStrike" u="sng">
                <a:solidFill>
                  <a:srgbClr val="3399ff"/>
                </a:solidFill>
                <a:uFillTx/>
                <a:latin typeface="Century Gothic"/>
              </a:rPr>
              <a:t>Bring it on, March 11,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freepal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2"/>
          <a:stretch/>
        </p:blipFill>
        <p:spPr>
          <a:xfrm>
            <a:off x="4343400" y="457200"/>
            <a:ext cx="4114800" cy="316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38080" y="17524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59120" y="4194000"/>
            <a:ext cx="4562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entury Gothic"/>
              </a:rPr>
              <a:t>Lemelson MIT, </a:t>
            </a:r>
            <a:r>
              <a:rPr b="0" lang="en-US" sz="1800" spc="-1" strike="noStrike" u="sng">
                <a:solidFill>
                  <a:srgbClr val="3399ff"/>
                </a:solidFill>
                <a:uFillTx/>
                <a:latin typeface="Century Gothic"/>
              </a:rPr>
              <a:t>Gatorade, </a:t>
            </a:r>
            <a:r>
              <a:rPr b="0" lang="en-US" sz="1800" spc="-1" strike="noStrike">
                <a:solidFill>
                  <a:srgbClr val="3399ff"/>
                </a:solidFill>
                <a:latin typeface="Century Gothic"/>
              </a:rPr>
              <a:t>March 9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8380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entury Gothic"/>
              </a:rPr>
              <a:t>Robert Cade invented Gatorade For the Florida Gators to help keep highd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Invention 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Gatorade is used all over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Made f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Named after the football team the 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Was credited for a win in the orange bow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Gatorade has 15 flav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41f7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was born in September 27,1927 in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went to the university of Tex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invented Gato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or the Florida Gators football team because they weren’t getting enough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ad an agreement to send Gatorade to the team every football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is a medical resear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4:52Z</dcterms:created>
  <dc:creator>install</dc:creator>
  <dc:description/>
  <dc:language>en-US</dc:language>
  <cp:lastModifiedBy>install</cp:lastModifiedBy>
  <dcterms:modified xsi:type="dcterms:W3CDTF">2010-03-18T13:42:01Z</dcterms:modified>
  <cp:revision>7</cp:revision>
  <dc:subject/>
  <dc:title>Slide 1</dc:title>
</cp:coreProperties>
</file>